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27A0-C095-42A2-9B88-0AB94BC9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537-5F68-4103-97AD-FE6401D1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149-58F0-42C3-8AAA-F7FF381C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EDE-6E07-4FA4-AEF8-551D8D6F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F9E4-D2FB-4766-B867-8B842CD7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3BC5-E9A5-4C31-9CF1-3D7A178C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D469-1292-4925-BF08-DBB5DA2C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286B-B4B4-4BF4-A138-123CBF39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DA43-1E07-4955-8EBF-B704D51C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8ABA-B75F-4AFA-983D-71803CBE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62DC-90DA-4730-AF04-1A7B20BE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FE7-FB64-4BC7-81C6-F21F11F2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81A1-741F-4343-894D-D502FE2B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267B-B91D-444A-AC96-EF69622A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2F7D-F847-4320-B4D7-C8050985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7386-76D2-44D4-A7AD-089E8404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C2C7-5BBD-4FB2-A18F-F1EE4766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B3D-58B2-4A52-BA74-E5762E3F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F6A-41A1-4494-9E20-DEF7D4B2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F079-B3FC-4B9D-8717-4A1FB603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E36-E5A4-4FCF-9AC2-8011F398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837-E7F3-45B9-ACFA-A739EC69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A543-4F62-4DEE-8ED1-6949C66A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6FA6-0ADD-4E9E-A8D1-05D5C953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43F9-B5A3-47D9-AC42-8C486F56CA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D103-F6F6-4F14-B8F1-CB99A99EAC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87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20000"/>
                </a:solidFill>
                <a:latin typeface="Times New Roman"/>
              </a:rPr>
              <a:t>Vincent Willem </a:t>
            </a:r>
            <a:r>
              <a:rPr b="1" lang="tr-TR" sz="4800" spc="-1" strike="noStrike">
                <a:solidFill>
                  <a:srgbClr val="420000"/>
                </a:solidFill>
                <a:latin typeface="Times New Roman"/>
              </a:rPr>
              <a:t>V</a:t>
            </a:r>
            <a:r>
              <a:rPr b="1" lang="en-US" sz="4800" spc="-1" strike="noStrike">
                <a:solidFill>
                  <a:srgbClr val="420000"/>
                </a:solidFill>
                <a:latin typeface="Times New Roman"/>
              </a:rPr>
              <a:t>an Gogh</a:t>
            </a: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19640" y="981000"/>
            <a:ext cx="20952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2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ori </a:t>
            </a:r>
            <a:r>
              <a:rPr b="0" lang="tr-TR" sz="4400" spc="-1" strike="noStrike">
                <a:solidFill>
                  <a:srgbClr val="42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rtunati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Primo Amore: suo cugino 7 anni piu di l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a ricevuto rifiuto da 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Prostituta: Sien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Clasina Maria Hoornik 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la pressione della famig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Figlia del vicin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Margot Begeman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 tentato il suicidio a causa della loro genitori si oppone al loro matrimo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rdina De Gro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sere responsabile della gravidanza di una raga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Prostituta Sien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Clasina Maria Hoornik 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35416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20000"/>
                </a:solidFill>
                <a:latin typeface="Times New Roman"/>
              </a:rPr>
              <a:t>I mangiatori di patate</a:t>
            </a: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tr-TR" sz="3600" spc="-1" strike="noStrike">
                <a:solidFill>
                  <a:srgbClr val="420000"/>
                </a:solidFill>
                <a:latin typeface="Times New Roman"/>
              </a:rPr>
              <a:t>primo famoso quadro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1720" y="5936760"/>
            <a:ext cx="7927920" cy="8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Van Gogh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ho voluto, lavorando, far capire che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uesta povera gente, che alla luce di una lampada mangia patate servendosi dal piatto con le m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185080" cy="3666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75720" y="5589720"/>
            <a:ext cx="7391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Times New Roman"/>
              </a:rPr>
              <a:t>Nuenen ve Anvers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a cui lui utilizzati colori naturali e scuri nei suoi quad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00"/>
                </a:solidFill>
                <a:latin typeface="Times New Roman"/>
              </a:rPr>
              <a:t>Paul Gaugin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che il su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migliore amico pitt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00"/>
                </a:solidFill>
                <a:latin typeface="Times New Roman"/>
              </a:rPr>
              <a:t>La Casa Gialla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Han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vissutto insieme per un po’</a:t>
            </a: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2663640" cy="2139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2953080" cy="2425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88040" y="836640"/>
            <a:ext cx="53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20000"/>
                </a:solidFill>
                <a:latin typeface="Times New Roman"/>
              </a:rPr>
              <a:t>Biografia di Van Go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796000" y="3940200"/>
            <a:ext cx="2184480" cy="2728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716360" y="1844640"/>
            <a:ext cx="9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ul Gauguin: Ritratto di Van Go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39680" y="6284880"/>
            <a:ext cx="19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aso di girasol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20000"/>
                </a:solidFill>
                <a:latin typeface="Times New Roman"/>
              </a:rPr>
              <a:t>Biografia di Van Gog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126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66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660000"/>
                </a:solidFill>
                <a:latin typeface="Times New Roman"/>
              </a:rPr>
              <a:t>rammatico conflitto </a:t>
            </a:r>
            <a:r>
              <a:rPr b="1" lang="tr-TR" sz="2400" spc="-1" strike="noStrike">
                <a:solidFill>
                  <a:srgbClr val="660000"/>
                </a:solidFill>
                <a:latin typeface="Times New Roman"/>
              </a:rPr>
              <a:t>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prensioni e divergenze di opinione tra le apparve e le sue phsycology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ior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o aver capito che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Ga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sta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ando l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sciarlo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tagliò metà dell'orecchio sinistro, lo incartò, lo consegnò a Rachele, una prostituta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660000"/>
                </a:solidFill>
                <a:latin typeface="Times New Roman"/>
              </a:rPr>
              <a:t>Ospedale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'stato ricoverato in ospedale a causa della perdita di sangue e la depressionement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i di nuovo, di nuovo in ospedale a causa elle allucinazioni e paranoia.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a delle pressioni della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, finalmente pose in un ospedale psichiatrico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Saint-Rémy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00"/>
                </a:solidFill>
                <a:latin typeface="Times New Roman"/>
              </a:rPr>
              <a:t>Notte Stella :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</a:rPr>
              <a:t> che dipinse in ospedale mentale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 subito un sequestro e mangiato il suo verni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00"/>
                </a:solidFill>
                <a:latin typeface="Times New Roman"/>
              </a:rPr>
              <a:t>Genio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rivista francesa ha detto Genio parlava di lu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'esecuzione è vigorosa, esaltata,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utale, intens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3500280"/>
            <a:ext cx="324000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Auvers-sur-Oise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Times New Roman"/>
              </a:rPr>
              <a:t>Dr. Paul Gache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l suo secondo medico in un altro ospedale psichiatrico. Lodipinse tre vol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00"/>
                </a:solidFill>
                <a:latin typeface="Times New Roman"/>
              </a:rPr>
              <a:t>Pistola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è sparato con una pistola dal suo pet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3573360"/>
            <a:ext cx="2454120" cy="302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40360" y="3860640"/>
            <a:ext cx="3871800" cy="181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918960" y="5950080"/>
            <a:ext cx="45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mpo di grano con volo di corv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olio su tel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20000"/>
                </a:solidFill>
                <a:latin typeface="Times New Roman"/>
              </a:rPr>
              <a:t>Misteri della sua malatti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I dottor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no diagnosticato per la loro malattia più di 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izofrenia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ressione maniacale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filide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nice avvelenamento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attia di Meniere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po di calor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 usando troppo colore giallo nei suoi dipinti nei suoi ultimi anni. Così hanno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sato che 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turbo medic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potrebbe essere un motivo per questo o per 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fetto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lla vis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potrebbe essere una delle ragioni perché 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nzio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 -absinth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vuto molto e lo faceva vedere appassionato di tu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7:31Z</dcterms:created>
  <dc:creator>melis</dc:creator>
  <dc:description/>
  <dc:language>en-US</dc:language>
  <cp:lastModifiedBy>melis</cp:lastModifiedBy>
  <dcterms:modified xsi:type="dcterms:W3CDTF">2011-11-02T16:15:29Z</dcterms:modified>
  <cp:revision>4</cp:revision>
  <dc:subject/>
  <dc:title>Slayt 1</dc:title>
</cp:coreProperties>
</file>